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82D-24AF-418F-AF43-76E1693E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3DE-0EFA-49AE-9043-C57E25C4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A05-E474-458E-B12E-3334E0A1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94A-9E2D-4FF6-8A4A-DE4C4542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3E5-4282-4512-9C93-E2A85C05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2B4-735A-4353-83A8-BCF4BAEE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D29-F193-4577-A382-D46DA3BD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31E-F83F-4864-B259-82EA070D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3DD-90D0-41AE-852F-C83F935B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E25-D41B-41F9-AAB3-04ACE467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C18-71AA-42DD-96EF-8C881C62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C99-9532-430D-AB9A-A5A0B794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DA02-B3F3-4169-9696-E72ADF6A3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, la, la, il n’y a pas de doute, je suis en route vers mon casse-cr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ût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51051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 ha, je reconnais cet endroit. Pfff, la maison de paille, pfff, la masion de bo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us savez comment j’appelle la masion de briques? Je l’appell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 charcuter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et c’est 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à que je vais faire mes courses, ha ha h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160" y="4800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’ai pe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é à tout pour avoir un bon sandwich au cochon… je suis un professionnel, mo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4038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ic, crac et voi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à le travail! Quoi! Personne! Crotte de bique! Hum, à propos de bique, la chèvre habite tout près d’ici avec ses peti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3505320"/>
            <a:ext cx="64767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te, j’efile mon 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éguisement, un peu de farine sur la pette, et je suis sûr que les biquets vont tomber dans le pannea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4267080"/>
            <a:ext cx="6782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oi, ils sont TOUS sortis?! Qu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à cela ne tienne… direction: la rivière; objectif méchou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7760" y="297180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sonne! Ma foi, je suis 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éçu, j’espérais bien que l’agneau serait toujours là en train de rêvasse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s de gigot, rien que des c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ênes et des roseaux! Puisque les animaux sont absents, voyons du côté des enfant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504960" y="47239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’abord, Pier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4191120"/>
            <a:ext cx="8839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en, l’effro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 est dans la forêt. Un bon ragoût de garçonnet en persperctive… mais où le trouver? J’aurais peut-être plus de chance avec le Chaperon roug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742840" y="5028840"/>
            <a:ext cx="6248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 voi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à devenu le roi de l’espionnag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657240" y="5333760"/>
            <a:ext cx="5181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ha! Maintenant je sais 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ù elle e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si rapide qu’une f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e, en un instant je serai arrivé chez la grand-mère. À moi la fricassée de fillet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2819520"/>
            <a:ext cx="5867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ens, 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ère-Grand a déménagé?! Qui habite ici maintenant? Monsieur Lapi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240" y="3352680"/>
            <a:ext cx="5791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i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à qui fera très très bien l’affaire! Rien de tal qu’un bon râble de lapin pour un loup qui a vraiment très très faim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 rot="450600">
            <a:off x="5257440" y="0"/>
            <a:ext cx="15717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oum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 rot="450600">
            <a:off x="5790960" y="609120"/>
            <a:ext cx="15714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oum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294920" y="5257800"/>
            <a:ext cx="175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e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’est-ce qui leur prend? J’ai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à peine bougé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3760" y="38052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ner, vous avez dit dîner? J’accepte avec grand plais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880" y="5257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Je suis le loup. JE SUIS REVEN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54100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us me reconnaissez? Je suis le loup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1907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 voici de retour dans la 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égion, encore plus costaud, encore plus intelligent. Un vrai grand méchant loup, quoi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4724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t j’ai 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âte de retrouver quelques vieux amis pour leur prouver que je suis le meille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’ai p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évenu les journaux que je ne ferai pas de cadeau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ire de semer la terreu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495288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, la, la, oui, je suis beau et magnifique, Je suis vraiment trop fantastiqu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34:19Z</dcterms:created>
  <dc:creator>CVJH-LAB</dc:creator>
  <dc:description/>
  <dc:language>en-US</dc:language>
  <cp:lastModifiedBy>nield411</cp:lastModifiedBy>
  <dcterms:modified xsi:type="dcterms:W3CDTF">2008-02-23T15:34:40Z</dcterms:modified>
  <cp:revision>4</cp:revision>
  <dc:subject/>
  <dc:title>Slide 1</dc:title>
</cp:coreProperties>
</file>